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22677"/>
        <c:axId val="84542541"/>
      </c:barChart>
      <c:catAx>
        <c:axId val="61922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2541"/>
        <c:crosses val="autoZero"/>
        <c:auto val="1"/>
        <c:lblAlgn val="ctr"/>
        <c:lblOffset val="100"/>
        <c:noMultiLvlLbl val="0"/>
      </c:catAx>
      <c:valAx>
        <c:axId val="84542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2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E58-FDB3-4363-87CF-AEB21433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022-8718-4886-B276-BE6BDE3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F22-2845-40C7-8AEA-9D2A4FB5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BEA-69E0-431F-88E8-8EA85099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C97-0A5A-4D88-A176-B7C4F6FB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0E1-F7C4-479A-818C-D9FE0D1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1B6-1B89-45DE-A0AF-D4057E83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EFD-7499-40DC-878B-CB76ED4F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99C-FF8A-43FC-8C6B-B61328D5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31B-CB2E-41B7-99AB-4293092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9E7-BFB9-449E-AFD5-7335231B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A25-18C4-4886-B8FA-8A64B93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CD1A3-73DD-4E8F-A6D4-8556721537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