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09378"/>
        <c:axId val="75910216"/>
      </c:barChart>
      <c:catAx>
        <c:axId val="837093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10216"/>
        <c:crosses val="autoZero"/>
        <c:auto val="1"/>
        <c:lblAlgn val="ctr"/>
        <c:lblOffset val="100"/>
        <c:noMultiLvlLbl val="0"/>
      </c:catAx>
      <c:valAx>
        <c:axId val="759102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093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3921-C0A1-477D-8A7D-57E5BD5A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1569-8619-45C7-A9FA-49318D0B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6589-59A0-4483-A53A-E0D5395A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E585-6FD1-4FD4-B688-77A2DBEA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0549-8971-4ED6-8027-0350D9A8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E76A-7432-454D-A169-277116E8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F25A-18CB-431C-A993-3CC55917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08C3-947A-4CFB-9743-8F8BB7F4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6329-ED3D-4447-A229-B9B94763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8FE0-A07E-4A65-9538-16AAFDA4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76C0-FBB8-4060-83FF-8EC28049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41F9-F24D-4CA4-9B60-B43D8975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E623C-111D-44FD-BFD7-BE40D9047D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