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7282"/>
        <c:axId val="50138893"/>
      </c:barChart>
      <c:catAx>
        <c:axId val="60672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38893"/>
        <c:crosses val="autoZero"/>
        <c:auto val="1"/>
        <c:lblAlgn val="ctr"/>
        <c:lblOffset val="100"/>
        <c:noMultiLvlLbl val="0"/>
      </c:catAx>
      <c:valAx>
        <c:axId val="50138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72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BF0-5FE4-43F8-93E7-5B3EE2A7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D90-CCA5-4CCD-AD2E-0FB7C9E6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B22-EEBF-4D3B-9061-0CC2E845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9CC-F115-447E-BF3A-35F1A62E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53D-09C5-4AD8-A0D7-8749B05B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569-2DFD-483C-AC30-6A7FF3B1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C90-F180-4AE7-8CC6-5BC0F819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534-B7EC-41E7-9258-8D7161F4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713-9EF4-46B4-97AB-3C16886C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DB6-6408-406A-BD70-0E3B4C73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ED9-C7C3-482A-9C1C-8E4ADE88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15A-57DD-4896-B554-B6F71E04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B4EA5-2E3C-417C-8B34-0548E63DBF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