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746801"/>
        <c:axId val="77523773"/>
      </c:barChart>
      <c:catAx>
        <c:axId val="797468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523773"/>
        <c:crosses val="autoZero"/>
        <c:auto val="1"/>
        <c:lblAlgn val="ctr"/>
        <c:lblOffset val="100"/>
        <c:noMultiLvlLbl val="0"/>
      </c:catAx>
      <c:valAx>
        <c:axId val="775237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7468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F2DE-3148-47B8-9100-F1BA6673C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83F9-BFB2-43CA-B197-4F75B97AF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E8BA-626E-4967-B6DA-FF17F9FF0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E628-05D0-43CC-A2CC-A85E6EA96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3546-BA0D-47EB-9857-1DE16A7DA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CDAE-FCC9-45FA-9E4A-937AF5481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5615-2E68-40FC-BBB0-05F365F1B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105F-55EA-4533-8E59-46FD5FED8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09C8-B560-409D-8CE1-669AE8A19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0FD4-0B1C-4D46-A702-32F186213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F000-326D-44B8-9254-B85C31C39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00F8-8092-4FD6-A30B-DEC718267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DAF96B-66FB-431B-941A-87AE474F445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