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97271"/>
        <c:axId val="3296415"/>
      </c:barChart>
      <c:catAx>
        <c:axId val="53897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415"/>
        <c:crosses val="autoZero"/>
        <c:auto val="1"/>
        <c:lblAlgn val="ctr"/>
        <c:lblOffset val="100"/>
        <c:noMultiLvlLbl val="0"/>
      </c:catAx>
      <c:valAx>
        <c:axId val="3296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7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93C-9E3F-47DB-B23E-D36F2D3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E5B-C3D3-41EF-966C-08A72697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A8B-82F3-4E95-948E-DB4DD44D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6DD-1F37-4035-A0C0-E0B0C4EC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BFA-0646-4C5E-A0E4-C33E6A7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FDB-9BA4-4788-92F7-6C891F1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5AB-78EE-44D3-8F8F-FC485B9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DD7-24CF-400A-974F-21ADC1D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7A2-7CC2-4D9C-B6B6-88578BF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57C-3853-4D09-BA3D-6F01CCA9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314-13A2-4451-B395-DA2C30B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C9C-2B1E-4415-8767-E24B17C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062C-351D-4D10-8B0D-492D626BE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