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16885"/>
        <c:axId val="25648198"/>
      </c:barChart>
      <c:catAx>
        <c:axId val="12216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48198"/>
        <c:crosses val="autoZero"/>
        <c:auto val="1"/>
        <c:lblAlgn val="ctr"/>
        <c:lblOffset val="100"/>
        <c:noMultiLvlLbl val="0"/>
      </c:catAx>
      <c:valAx>
        <c:axId val="25648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16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BD9-3563-4CDD-A41A-A3D317FA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C1F-07F6-48E0-8F8E-560E19C9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650-C18A-46C7-9439-C205FA35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869-2651-4BB6-A9FE-0CCFAF89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2FD-C96B-47E2-8119-E0C9ECB0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397-BFB4-4409-B584-635BFA5B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EF8-F4F0-49F2-818E-6CABB69E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CEA-A223-4D7A-B871-0EDC0698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67C-9E92-4D8E-9EF3-6F35D4C6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713-EA42-47C3-B4BC-5D86DA98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F9D-B4B2-43C9-91C6-1CDB83F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0DC-A04C-40F5-847B-436311F6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744D1-2BA3-4110-ABD7-1D3A605E0C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