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9195"/>
        <c:axId val="46305066"/>
      </c:barChart>
      <c:catAx>
        <c:axId val="80391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05066"/>
        <c:crosses val="autoZero"/>
        <c:auto val="1"/>
        <c:lblAlgn val="ctr"/>
        <c:lblOffset val="100"/>
        <c:noMultiLvlLbl val="0"/>
      </c:catAx>
      <c:valAx>
        <c:axId val="46305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91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9E2-8617-4BDC-AE52-27DFF05F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5F2C-6D32-4CB3-923F-ACD1E8D2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1EE-DEC5-43B3-9910-524219AD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7298-FEA3-4613-8BA0-A6D0BC44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967-E3FF-455A-8571-371CD39C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B4CD-B9BB-43FF-8AC3-B0E28FDB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0E8-F6C4-40AE-BCF8-FE9A5EA6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832-2BD8-4F2B-8995-6444FB63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36C-37C4-444F-BE12-EA93F36A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B0D-D9B0-4613-906B-64C9D49B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FBC-2657-42F7-A1A7-02BDB600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4D4F-F75D-4E7F-8881-78F9B006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8767F-8D0D-4FDA-BA3C-846EB694B8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