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38780"/>
        <c:axId val="21038079"/>
      </c:barChart>
      <c:catAx>
        <c:axId val="61138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8079"/>
        <c:crosses val="autoZero"/>
        <c:auto val="1"/>
        <c:lblAlgn val="ctr"/>
        <c:lblOffset val="100"/>
        <c:noMultiLvlLbl val="0"/>
      </c:catAx>
      <c:valAx>
        <c:axId val="21038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38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5B4-7C6C-4CC0-8244-9BCF915E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3BF-C7D3-4E16-8298-BE0A1E44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F93-0BA8-4622-865F-D74BC430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310-D50C-4EE1-A50A-C0BDC83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4DE-BC23-458A-9963-1136E5C7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CCF-6B70-4D83-84ED-18FA091B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E9D-48B3-4CBE-A96D-72D7BD1E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442-C9E6-465C-BD4B-2C3E61E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4DE-AB9D-4CB3-B5CB-F65530CF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6D0-7F59-4417-9079-E395063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694-8548-4683-BE40-28852D5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7373-1C57-4D3E-A6A5-01C129B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10E6-BE83-4B06-9560-BF76D84F0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