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0529"/>
        <c:axId val="30088693"/>
      </c:barChart>
      <c:catAx>
        <c:axId val="9970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8693"/>
        <c:crosses val="autoZero"/>
        <c:auto val="1"/>
        <c:lblAlgn val="ctr"/>
        <c:lblOffset val="100"/>
        <c:noMultiLvlLbl val="0"/>
      </c:catAx>
      <c:valAx>
        <c:axId val="30088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B06-B5B2-438B-92AE-1A93AAC5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74D-7889-4946-922D-633E9F8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8FB-535C-4948-956D-5C336112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F11-B4DD-4E00-AD62-A3BA3D4B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759-5F98-420D-BF90-E0FF5417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A54-705D-4779-B0BA-D268167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E00-3199-4A0A-BF0A-305774FF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862-0421-4A37-9515-F77493EA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A38-096C-40F4-BEE2-B612276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5EB-A58A-425D-9C9F-95484A7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B24-F102-40CA-8737-8EBE984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753-999C-4D5E-A3EB-26FC72EE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FD55-DD31-4E0E-94BC-A1B3E1BC4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