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65627"/>
        <c:axId val="42619859"/>
      </c:barChart>
      <c:catAx>
        <c:axId val="91465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19859"/>
        <c:crosses val="autoZero"/>
        <c:auto val="1"/>
        <c:lblAlgn val="ctr"/>
        <c:lblOffset val="100"/>
        <c:noMultiLvlLbl val="0"/>
      </c:catAx>
      <c:valAx>
        <c:axId val="42619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65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AF3-6DCF-459B-A717-F20E4852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86C-C360-48A3-87D3-D35DBAC2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4E89-F6C6-4F97-868F-63901397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053B-49E2-4CF9-9877-F82C12E5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D3F-6982-4F8F-A91C-B426B4A8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CD0-741F-44B8-A9FA-E0CCFA86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BE0-C5B6-453C-8C63-23515252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A93-CDFA-4C40-972F-94282432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207-6183-4ADC-B9AD-FEC22F56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23B-8418-411F-8EA3-04E0C3F2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B41-3A3A-46FA-8A35-76E16C2A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FC9-4894-48BE-8C02-871996A8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8F36B-C521-4996-B276-E85A66AFCC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