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36269"/>
        <c:axId val="61463670"/>
      </c:barChart>
      <c:catAx>
        <c:axId val="79436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3670"/>
        <c:crosses val="autoZero"/>
        <c:auto val="1"/>
        <c:lblAlgn val="ctr"/>
        <c:lblOffset val="100"/>
        <c:noMultiLvlLbl val="0"/>
      </c:catAx>
      <c:valAx>
        <c:axId val="61463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6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A58-6149-4092-AC78-A9EF1B91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262-EEAC-4F5B-8BFA-6A4B84AD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57B-7452-4EAE-893C-28716E65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18E-2B32-4586-BB31-E4D95C8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3C7-3C6A-42BC-89B7-99D5642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4D8-A832-436A-AE93-F7E1C80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C9D-0172-43F9-9C84-DC48176E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1FE-0837-44EF-9617-43DCBCC8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7AF-19B8-4D59-BF8C-D2162EC7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82E-8364-4DF3-9AB7-CB9D34A3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EF2-2776-4D88-AF6B-997264C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1F9-C13B-47F4-B4A6-09B4ADA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6F117-AC71-41DD-B1B3-9901246E1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