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259116"/>
        <c:axId val="48497280"/>
      </c:barChart>
      <c:catAx>
        <c:axId val="512591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97280"/>
        <c:crosses val="autoZero"/>
        <c:auto val="1"/>
        <c:lblAlgn val="ctr"/>
        <c:lblOffset val="100"/>
        <c:noMultiLvlLbl val="0"/>
      </c:catAx>
      <c:valAx>
        <c:axId val="484972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591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C857-334A-4B75-8A62-C7070C61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16CD-B851-4B39-899C-C1703327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177A-B70D-4BDC-B013-41E224A7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670D-8FA5-4FD5-868D-E1F59900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993C-32A0-483E-9EE3-1C51B4FF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1EB3-0E77-4058-B1BB-9E679BB7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ACDE-89B9-46C2-BE67-0EC5574A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5A6E-91EF-48DA-949C-482D81A1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D625-FDBF-4B2C-9C86-B0B00855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61F6-E07A-4864-A8E0-47044216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583A-3FFB-4CD7-9FFE-981E72E6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2515-AB12-4914-8E24-9C110EBF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50570-1DCD-4038-A933-1E0F93C334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