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85692"/>
        <c:axId val="43782138"/>
      </c:barChart>
      <c:catAx>
        <c:axId val="17885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82138"/>
        <c:crosses val="autoZero"/>
        <c:auto val="1"/>
        <c:lblAlgn val="ctr"/>
        <c:lblOffset val="100"/>
        <c:noMultiLvlLbl val="0"/>
      </c:catAx>
      <c:valAx>
        <c:axId val="437821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85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06A8-7A7B-405F-9F89-6E8E99C7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5E71-13CC-4914-9E6F-8D604F90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11C5-B0AF-4DB6-8591-D5A798AE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B1F9-7724-4CD2-BF03-0CE04BC8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A0FA-1C8B-4565-B920-BCBC7EF3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ACCC-E760-47F7-BC13-E0A60612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072D-7342-4C39-84CB-0401C085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CF92-A294-4B1B-97DC-2587329C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70E2-16E5-4AE4-BFC9-97C7FDA0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8F74-32C9-4458-820B-F7434654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EF8E-A90F-44B3-89A1-A02F3308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542C-39F4-4F07-953B-442587D6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BECC2-4E96-494C-89B5-C3A2BB84BC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