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52019"/>
        <c:axId val="15146388"/>
      </c:barChart>
      <c:catAx>
        <c:axId val="46152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46388"/>
        <c:crosses val="autoZero"/>
        <c:auto val="1"/>
        <c:lblAlgn val="ctr"/>
        <c:lblOffset val="100"/>
        <c:noMultiLvlLbl val="0"/>
      </c:catAx>
      <c:valAx>
        <c:axId val="15146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2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322-0BCD-4E94-817E-B8534D48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D90-8129-495D-99F9-C706451E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CD4-61E1-41A1-A6A3-215F3964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CE4-CEFB-4B59-9FEC-C750B153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EFF-F692-471F-9CA3-7123E0FD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E05-C254-49FC-A71A-535D3FDF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C44-F12A-44F5-B0D6-5B754A69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DC2-AEBF-4B9B-B8CA-F6BD822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BD7-62FE-43D9-BC96-E2E70CB5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3F1-4AC2-4736-85B4-B4EB1892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A0F-6B97-415D-B67A-21C8FB9B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FB7-62EA-436E-B764-0FF455F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5A6D3-291D-481B-A0DD-580C1B41F3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