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707622"/>
        <c:axId val="67772375"/>
      </c:barChart>
      <c:catAx>
        <c:axId val="157076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772375"/>
        <c:crosses val="autoZero"/>
        <c:auto val="1"/>
        <c:lblAlgn val="ctr"/>
        <c:lblOffset val="100"/>
        <c:noMultiLvlLbl val="0"/>
      </c:catAx>
      <c:valAx>
        <c:axId val="677723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7076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D24D-2A95-43C5-BB53-9A85D11F3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2DEB-92DF-43ED-A1D2-FC6C04D7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BB6A-544C-4C1B-B798-A8B151BD2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A56D-4EBE-4678-BE64-55C9B5E9C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CDE7-1C4E-46AF-A208-A89FF371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6AF6-D5E7-4B25-91E0-15254724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3668-2EAF-41D2-BCD6-E178F73D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AEB4-330C-4B3C-B5FD-E1F98F3F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42CD-4935-4D2C-9EEA-80818CB8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F4FE-F3FC-42A8-A009-C5B3921F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6CEE-E741-4EDA-A727-FF3D1272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4FB5-5445-42D2-BFA7-EC1D4B19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79F144-BF73-4B5A-8469-BBC5DC3B4F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