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21"/>
        <c:axId val="16002028"/>
      </c:barChart>
      <c:catAx>
        <c:axId val="60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02028"/>
        <c:crosses val="autoZero"/>
        <c:auto val="1"/>
        <c:lblAlgn val="ctr"/>
        <c:lblOffset val="100"/>
        <c:noMultiLvlLbl val="0"/>
      </c:catAx>
      <c:valAx>
        <c:axId val="16002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4CA-14AE-4597-B1DB-7BF37526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042-D2BE-4599-AE6D-1D45918C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F4C-A77E-46B4-B2B9-B4CD1AC0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E1D-2467-464D-B99D-2264BD6F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FFA-B337-46A9-B015-1B8AA82D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88A-D710-4B18-9436-6A29BCEA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6B9-9F5B-410E-AA65-E8E82207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261-30CC-4574-A1C6-5647C94A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069-8E16-477F-8BE1-02CC49FF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996-A838-4147-A264-8B0F6191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FFE-3A0B-439F-9D39-13665357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397-CDAD-4549-B443-CFBC9935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4924E-794F-40E2-870C-C5F00FAFFA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