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9524"/>
        <c:axId val="92861567"/>
      </c:barChart>
      <c:catAx>
        <c:axId val="9509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1567"/>
        <c:crosses val="autoZero"/>
        <c:auto val="1"/>
        <c:lblAlgn val="ctr"/>
        <c:lblOffset val="100"/>
        <c:noMultiLvlLbl val="0"/>
      </c:catAx>
      <c:valAx>
        <c:axId val="92861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9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E60-034E-472A-86C9-86F31D3E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469-007B-4EC2-A2BB-856258FB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E64-5287-4A57-9616-924B530D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A1F-EFEB-4F26-89E2-9F7F6B91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7CD-A43D-43D6-8A3E-E4D7EE6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E27-40B9-464D-9D81-93947A8F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E2A-B3CE-4908-B5D9-B6A52FC4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A0A-DA2A-4DB4-833D-E11F967B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B11-D41F-47B5-93D1-72A32916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97C-0820-47F0-A247-32E8DF4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2D6-607C-43C7-AF38-41DC52CC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F63-11BE-4054-B294-C57EFC6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ABDF2-FF62-4CA7-BA1C-C8B97232B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