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35904"/>
        <c:axId val="36516677"/>
      </c:barChart>
      <c:catAx>
        <c:axId val="86835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16677"/>
        <c:crosses val="autoZero"/>
        <c:auto val="1"/>
        <c:lblAlgn val="ctr"/>
        <c:lblOffset val="100"/>
        <c:noMultiLvlLbl val="0"/>
      </c:catAx>
      <c:valAx>
        <c:axId val="36516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35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B3F-CF70-4E4D-88E2-9F3F29A8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5EB-FF9F-46DD-B4CE-A0F2DC60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42EE-CAF5-44BC-9EE6-84635C4C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4A0-05A2-447D-8DCF-FF5430CC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535-1811-47FF-B025-D1F47FBD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2C39-69DF-41C1-A45B-993F3F7C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1B0-02EF-4A6A-8496-76005918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32E-0FB3-4436-A17D-C413377C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C13-5AE9-48C0-AB59-7FAE109C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A0D-170F-427D-B555-0F70F404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E77-DF04-40FE-A8A5-7DB1EB65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113-3226-4397-8031-745D6077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3B178-34A8-4BAB-A399-D54C2862F0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