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9897"/>
        <c:axId val="29779485"/>
      </c:barChart>
      <c:catAx>
        <c:axId val="19998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79485"/>
        <c:crosses val="autoZero"/>
        <c:auto val="1"/>
        <c:lblAlgn val="ctr"/>
        <c:lblOffset val="100"/>
        <c:noMultiLvlLbl val="0"/>
      </c:catAx>
      <c:valAx>
        <c:axId val="297794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98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4F5-F389-49BB-A232-2F80B654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248-D75A-4AA3-9209-1FFCEA8C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FA67-7538-4A8F-9252-0023DC7B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D4C-DB91-4D82-A82F-A5D79E74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044-675A-4215-A47B-9CA14806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69AD-D200-4185-9DB7-874C5E37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377A-B2AF-4430-AE21-F3D9967A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A48-2F23-4080-B8F8-135F8176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4D4-5E6F-443D-9619-B7C44C24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405-710B-41B3-AE4F-7FF2D8C4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C23-B9FC-4341-81D0-FA61B35F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339-50CA-4C7F-9980-A21AB783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4572E-7B84-4CB1-83D2-4367D377D4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