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03160"/>
        <c:axId val="63403372"/>
      </c:barChart>
      <c:catAx>
        <c:axId val="93003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03372"/>
        <c:crosses val="autoZero"/>
        <c:auto val="1"/>
        <c:lblAlgn val="ctr"/>
        <c:lblOffset val="100"/>
        <c:noMultiLvlLbl val="0"/>
      </c:catAx>
      <c:valAx>
        <c:axId val="63403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03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0F7-738B-431B-BF77-CF1F6371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327-B64C-4DC8-93CC-0125924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24B-E230-4626-A7DE-3BAFE58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BB8-D937-4B0F-B07A-C0C0F71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7CF-AB80-4FE8-9B03-A7B19A0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D89-71D5-47CC-AEC7-6EBE9A0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FC6-422E-43BF-BA64-414573B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865-6B05-4895-A347-D212C0E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6BE-56CE-419D-81B8-F60EB7DD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36C-B25F-4FAF-80D9-39DBEB1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BAE-B3AC-446C-84CF-CB6CEEA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44B-E44F-4E93-9F9E-9DF21C5C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3603-016C-4EDF-82FF-17DCA868AA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