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20522"/>
        <c:axId val="61207249"/>
      </c:barChart>
      <c:catAx>
        <c:axId val="22620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07249"/>
        <c:crosses val="autoZero"/>
        <c:auto val="1"/>
        <c:lblAlgn val="ctr"/>
        <c:lblOffset val="100"/>
        <c:noMultiLvlLbl val="0"/>
      </c:catAx>
      <c:valAx>
        <c:axId val="61207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20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C5D-5146-4C8B-A129-EA622283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FF3-2BA4-4CE8-BC3D-A3F5B7F4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1F8-20D9-4DED-A63F-75A30972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3D9-46CB-4C01-86E5-766F1A1A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4CC-18BF-48E3-824B-5F92F006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16A-D1D1-46AB-B30E-3A2663CC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84F-D56C-4F1B-BE02-7EC3B28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95D-725A-49CD-9EEF-D62FDF22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394-8903-4CBE-83BF-8C0CAFB6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6C3-F693-4E85-8A52-6CF6868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E17-6872-4313-AF62-00064C8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567-8A35-408D-8BC9-4F9E3F07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6C07-8D43-45C0-AFD8-4DCBD37906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