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40892"/>
        <c:axId val="27587810"/>
      </c:barChart>
      <c:catAx>
        <c:axId val="43340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87810"/>
        <c:crosses val="autoZero"/>
        <c:auto val="1"/>
        <c:lblAlgn val="ctr"/>
        <c:lblOffset val="100"/>
        <c:noMultiLvlLbl val="0"/>
      </c:catAx>
      <c:valAx>
        <c:axId val="27587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0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328-3C35-4329-8FD0-BBEA4562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074-AF28-41D0-AFBD-962C4EA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44E-D2D8-41DD-A224-0C727CD5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E15-81FC-4FBA-A062-201B90FE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BFD-F174-4292-AEBA-C018CF5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6F0-D451-4997-B806-FC39958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56B-6CFF-473A-8A1D-65CB9A44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E2E-3F88-4FD0-A312-D32A5A79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886-30F8-4499-A3D7-72B44A82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089-9DC1-4537-A23B-43176C8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536-957F-4C3C-B788-080AE60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899-8AC0-44AC-948B-B74E79F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EECB-3F6C-4367-8A4B-70F14536EC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