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20081"/>
        <c:axId val="12883692"/>
      </c:barChart>
      <c:catAx>
        <c:axId val="66420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83692"/>
        <c:crosses val="autoZero"/>
        <c:auto val="1"/>
        <c:lblAlgn val="ctr"/>
        <c:lblOffset val="100"/>
        <c:noMultiLvlLbl val="0"/>
      </c:catAx>
      <c:valAx>
        <c:axId val="12883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20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B8D-3662-4236-AC80-1CD3B66F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85B-4654-4F6C-845F-94771850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95C-F82A-48E2-9B70-E57E447F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413-2034-4ED0-A0CC-7F860070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6D0-6883-44A9-8670-563A85E9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D65-434F-4A08-9489-2A6DBD67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426-0E6D-4CC0-AC1F-BD59E298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E4E-3E06-467A-A6DC-DFC418FD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C5C-EE0F-46C8-A3C7-EC34FC5C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A51-4520-4208-9832-A15C1C7D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D15-9C09-4404-A275-EDDC13F3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C5F-2B02-4BF6-A002-2A422AAE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F6E22-BFA2-4146-9704-433B670132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