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345883"/>
        <c:axId val="47474558"/>
      </c:barChart>
      <c:catAx>
        <c:axId val="143458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474558"/>
        <c:crosses val="autoZero"/>
        <c:auto val="1"/>
        <c:lblAlgn val="ctr"/>
        <c:lblOffset val="100"/>
        <c:noMultiLvlLbl val="0"/>
      </c:catAx>
      <c:valAx>
        <c:axId val="474745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3458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053C-1407-4285-94B1-BDD3DAC86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090C-C9F3-425B-9E9E-0FA95D64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E45C-3041-482E-A726-F75F0B37F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5948-D6E1-4953-B3DC-8F0FCE4E8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885A-B4F7-4F7D-8866-C90AD76B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7918-C31C-46A8-85F8-F5799DBD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A20A-57E7-4664-AF31-52D2C901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9F87-D7E4-43A7-A08E-90E6DFA6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BBA2-1EB2-4C84-A8CB-0C0BDC9D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A783-2823-4BEC-8B79-B1170EDD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6A8C-AEA3-49DD-A022-3B11727B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BDA8-1FC3-41BE-811C-44BC3F10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FACB3B-8208-458B-A83C-169B0D262C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