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3020"/>
        <c:axId val="90446495"/>
      </c:barChart>
      <c:catAx>
        <c:axId val="4213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46495"/>
        <c:crosses val="autoZero"/>
        <c:auto val="1"/>
        <c:lblAlgn val="ctr"/>
        <c:lblOffset val="100"/>
        <c:noMultiLvlLbl val="0"/>
      </c:catAx>
      <c:valAx>
        <c:axId val="904464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3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33A-ECA5-4D5A-8064-3CA3FF72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E94-8C4F-4D66-9E92-3C220DCA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8BE6-4607-4945-9109-C33914E4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8118-556A-4AB4-90CF-C3D84590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660-9D57-4E33-BCF8-E562D7A1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17AC-433E-419B-AF62-D94BDADD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9E9-E9A2-40BA-B58C-C685D5A6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B3BB-4EE0-4928-9090-EFAA79C0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C1B0-9648-4B38-ACEA-BC5D972E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54BF-55EF-4823-B2D8-2C635ED3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3FE-0641-4F71-A85B-06C62E3D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452-C16C-4014-9BD2-1265CF0C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23007-5EA3-4B21-A543-D435020F4C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