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24716"/>
        <c:axId val="26988071"/>
      </c:barChart>
      <c:catAx>
        <c:axId val="34524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88071"/>
        <c:crosses val="autoZero"/>
        <c:auto val="1"/>
        <c:lblAlgn val="ctr"/>
        <c:lblOffset val="100"/>
        <c:noMultiLvlLbl val="0"/>
      </c:catAx>
      <c:valAx>
        <c:axId val="26988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24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DAC-3CCD-42A2-AF77-7B416D04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CF8-653B-46CB-909A-155FB6B9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359-5455-4CBC-B293-03D559C4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DA1-D707-48AC-A69F-CB6D0032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DE5-A71A-44B7-B881-72DF7072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46D-8B7F-427E-AEAC-322E6472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366-57FA-4D93-96AE-EF4AB341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F49-6428-4F58-9A13-26CD14A4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BE4-CE77-487D-BB6D-4272C18B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6F6-DD3A-46AF-80B4-B35D7377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B06-A751-42E2-ACF3-30963C9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463-4588-412B-95AF-6C831AC2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36890-EA65-4C7D-AD95-6B1D1AD397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