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6586443"/>
        <c:axId val="42150089"/>
      </c:barChart>
      <c:catAx>
        <c:axId val="6658644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150089"/>
        <c:crosses val="autoZero"/>
        <c:auto val="1"/>
        <c:lblAlgn val="ctr"/>
        <c:lblOffset val="100"/>
        <c:noMultiLvlLbl val="0"/>
      </c:catAx>
      <c:valAx>
        <c:axId val="4215008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58644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85FC8-3F26-4BB0-86F6-255869DD6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CDBE8-7C56-4EE7-B3E0-C0CD66A41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D4AC1-7CDC-4022-93B6-3A40E871B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8D84F-47F9-4A48-9FEC-3062C8C6A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AD54B-5BD3-4E48-A69A-C8A6A3D34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BACA3-642D-4248-AC1B-51C60526D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42532-429E-45F1-B2AB-68424FE4F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3E23F-B3BD-4F6F-BFCC-533B60171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16B98-3B88-4B81-B74A-C7D1E446A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61DBA-0B87-4BD9-AE92-697D715A2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C4AF1-F805-4C9A-A588-23A7F43B3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C8107-17A0-4288-93A8-8483A8AE5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0AD04B-0E64-4806-A8B2-A54426B240B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