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93880"/>
        <c:axId val="9183301"/>
      </c:barChart>
      <c:catAx>
        <c:axId val="26793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3301"/>
        <c:crosses val="autoZero"/>
        <c:auto val="1"/>
        <c:lblAlgn val="ctr"/>
        <c:lblOffset val="100"/>
        <c:noMultiLvlLbl val="0"/>
      </c:catAx>
      <c:valAx>
        <c:axId val="9183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93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173-58FD-463B-AFB4-D8D26B53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582-AF13-47F9-93BC-EE2A0B61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43D-A764-442B-8D1B-4D18DE2D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AAA-E80C-448C-9385-975C7ED8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95A-DF6C-4737-B60B-915FC29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666-C09F-4AD0-8AA6-DB616ADE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DDB-214E-46D3-8315-16537656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22C-6AFF-4CEA-A094-4285BAC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DC9-3E3A-43C4-A5D1-4F7EC713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EE6-BC9C-40F7-BE9C-9F315FC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3DD-CA55-452A-87D8-925200F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A58-D945-41C1-9D6C-0FDB3B1C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053F9-79C8-45A0-814D-B9089AAB5A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