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17079"/>
        <c:axId val="62518034"/>
      </c:barChart>
      <c:catAx>
        <c:axId val="19217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18034"/>
        <c:crosses val="autoZero"/>
        <c:auto val="1"/>
        <c:lblAlgn val="ctr"/>
        <c:lblOffset val="100"/>
        <c:noMultiLvlLbl val="0"/>
      </c:catAx>
      <c:valAx>
        <c:axId val="62518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17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C9A-6214-4DF3-B78E-E24B8F3D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749-D4FE-4B13-8F6A-318C329E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76A-FF83-403E-9693-49CAFC07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7B1-D0DE-4B36-A42E-ED1F791C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AC8-98A1-4A6B-9310-DA672ABB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C03-BBCA-4BC5-8356-F8B2615F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ED8-B0EE-4FF9-8C78-6A7A3183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390-FE51-4A60-9EE1-1AD441AE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6FB-EAC7-4799-B2B9-869A277E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A9B-E7A7-4712-AB4E-F7B9257C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348-310E-493C-9D2E-49245E26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44F-EDED-432A-B56F-64FD6779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14974-E54E-4F2E-B09A-0C5EC7FC7A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