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01859"/>
        <c:axId val="66779656"/>
      </c:barChart>
      <c:catAx>
        <c:axId val="52401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9656"/>
        <c:crosses val="autoZero"/>
        <c:auto val="1"/>
        <c:lblAlgn val="ctr"/>
        <c:lblOffset val="100"/>
        <c:noMultiLvlLbl val="0"/>
      </c:catAx>
      <c:valAx>
        <c:axId val="66779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01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5B5-7FD1-4050-8426-F316136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673-F9B6-4327-B661-6090F2DA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FD8-FDD0-47B5-B5FF-F32CF479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EC5-9ED8-4E0C-B616-1268DC28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491-1FC6-4FF6-A8FC-2300421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744-7356-4CEF-93A4-EAB6669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1ED-873D-4DDF-B05C-5967C6C4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AA4-5288-42E6-B576-1251F82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5FA-9D3A-42A7-B4E8-C7F97DFD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356-3DC8-47AB-A075-43AB16B4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723-C9C5-4AC6-B4E2-DAA4C95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6FD-C45F-4538-AA84-CE41D308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EEFCD-3905-418B-83AE-8B4181F27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