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47990"/>
        <c:axId val="14712884"/>
      </c:barChart>
      <c:catAx>
        <c:axId val="18647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2884"/>
        <c:crosses val="autoZero"/>
        <c:auto val="1"/>
        <c:lblAlgn val="ctr"/>
        <c:lblOffset val="100"/>
        <c:noMultiLvlLbl val="0"/>
      </c:catAx>
      <c:valAx>
        <c:axId val="14712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47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254-BF60-4595-A398-2FAA9AA4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EF5-272F-4C33-BA8F-EBB59557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A97-3C2A-4F09-ADF4-FC7578F8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1E0-8CDF-4AF6-9437-9535EDD3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BE7-0E81-41C7-9B1D-1D6DED6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398-F87A-478F-B9F4-6DF97C6D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33F-3FDB-4FAC-9D89-8BB79B6A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B64-9CD9-4B18-BA1F-16DCA26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A3C-F2FD-43ED-9122-E4238D07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AC5-408B-4507-93EC-29B4B60A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897-9281-4345-B606-D013B2C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BDB-F3FE-4EAE-8783-F5E3AAC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E5294-7FD8-4CFD-BD10-2EFD0C4AE4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