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99365"/>
        <c:axId val="35510098"/>
      </c:barChart>
      <c:catAx>
        <c:axId val="66993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510098"/>
        <c:crosses val="autoZero"/>
        <c:auto val="1"/>
        <c:lblAlgn val="ctr"/>
        <c:lblOffset val="100"/>
        <c:noMultiLvlLbl val="0"/>
      </c:catAx>
      <c:valAx>
        <c:axId val="355100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993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30EF-6DF8-4C9D-ACE9-9D46BA985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2C42-4B26-4D3C-8CF6-36DF45830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6DD3-7667-499F-A6F6-B5A839076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E995-A971-4B8A-98AB-13A9FBFF1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35E0-8A27-4361-B13F-04E42080E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4565-3D7F-4156-A074-A94CB8A8B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F8DC-81AA-40B8-8FBE-7BBE73131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10A3-9B4C-406F-BC34-CFACC2FEA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4DEA-85D9-453C-844C-604BC4CAA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9460-A045-4E26-BA25-FFC1C80F9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9811-7B61-434A-AFFC-516F7C7E1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3B15-AF7B-430E-9B79-43247BABF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F26A4F-8509-4BD0-AE21-05DB54C17CB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