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9103"/>
        <c:axId val="20294091"/>
      </c:barChart>
      <c:catAx>
        <c:axId val="9299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94091"/>
        <c:crosses val="autoZero"/>
        <c:auto val="1"/>
        <c:lblAlgn val="ctr"/>
        <c:lblOffset val="100"/>
        <c:noMultiLvlLbl val="0"/>
      </c:catAx>
      <c:valAx>
        <c:axId val="20294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9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1E0-51C8-4B5C-BE08-53D35659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878-3445-414F-802B-2162650C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A093-17F1-4AF1-9D02-AC6BD22B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9E6E-C341-4BEE-BCB0-B88A3689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666-716F-4E35-BC28-4A96C6B2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96A-6645-4A29-9D6C-96744CDE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B198-D527-42FF-A252-FAA4AF7FB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9B18-45E2-4A18-8301-AB4FE63F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D87B-8538-4713-BAB5-FA6FB5AB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BE8-B792-4E1A-801B-5205316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5145-895D-44AC-B6F8-B6DEA90C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A53-AC55-4A07-B346-3C63B2A7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552C1-3A9A-42F0-9B26-1E60233585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