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59959"/>
        <c:axId val="11349107"/>
      </c:barChart>
      <c:catAx>
        <c:axId val="42599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349107"/>
        <c:crosses val="autoZero"/>
        <c:auto val="1"/>
        <c:lblAlgn val="ctr"/>
        <c:lblOffset val="100"/>
        <c:noMultiLvlLbl val="0"/>
      </c:catAx>
      <c:valAx>
        <c:axId val="113491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599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43DC-7A49-417C-A231-805E9F6E0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7F5D-4A6A-49C4-BE94-72C99C6F2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55EC-D1FB-44EB-9CBE-DF884C1CA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3A98-E0E2-4787-831F-1B02F8CF5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9735-2961-4092-BF24-32107454E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11B0-4860-4D10-84B4-513C0C095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D517-03D6-4519-882D-C0C078237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B8F7-A7F1-4DEF-BF7F-E5A0CE47B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95E1-C642-4451-8A6C-A6CC7DF12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CA8D-113B-4AE3-889F-DE77751C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83FA-E043-4544-8225-A6A818C7F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E8AF-8428-4009-B74D-DFCE4130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025D6D-B41D-42E2-9C1A-47A0E9691F5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