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132239"/>
        <c:axId val="75199598"/>
      </c:barChart>
      <c:catAx>
        <c:axId val="19132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99598"/>
        <c:crosses val="autoZero"/>
        <c:auto val="1"/>
        <c:lblAlgn val="ctr"/>
        <c:lblOffset val="100"/>
        <c:noMultiLvlLbl val="0"/>
      </c:catAx>
      <c:valAx>
        <c:axId val="751995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132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1DF37-2092-4ABF-A035-10901B54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DCA4-A01D-4A3B-8F97-FCF5646F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CC3B-7790-4ED2-9B74-F01AC8150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FB17-CBF8-4150-91D9-7F0C6FE6F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B252-7FD2-4225-8DDE-CCCDC46AD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EAF-D295-41A8-9FBE-FC379889B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6518-A0BB-4403-BCE7-61CCCEA0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E325-9633-45EB-9B49-6DDC7D93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9A7D-E510-49BD-AA30-B9EBC3141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9B9D-1C84-492B-84F8-5ED06F25A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96F-7B10-428A-8F60-85F4C80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615A-9199-4F10-9085-4622A4693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F92332-8186-41F0-9554-3EE8FBF5193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