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68943"/>
        <c:axId val="52862081"/>
      </c:barChart>
      <c:catAx>
        <c:axId val="85468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62081"/>
        <c:crosses val="autoZero"/>
        <c:auto val="1"/>
        <c:lblAlgn val="ctr"/>
        <c:lblOffset val="100"/>
        <c:noMultiLvlLbl val="0"/>
      </c:catAx>
      <c:valAx>
        <c:axId val="52862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68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F84-7537-4366-A1E7-8A7B1792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FAF-1391-418E-A6E5-9B807A22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E25-339E-4900-8D82-533354F9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2B5-9718-4F64-8CCC-C3A49B22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933-C138-4C67-B7EC-BDAE5A18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9CD9-E8F6-4F6E-8FAA-A90EAFD8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64FD-EA07-4A2F-AB0A-FA60D15E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EE4-E36C-4979-84E6-2B36FFAE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42B-5FB2-4F6F-BB79-FEEB7009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AD1-EDB2-4926-950F-7283A882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F01-E61A-4445-ADA0-C99C2E30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771-4F0D-42B9-9932-4354B7F6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261A2-35F3-4274-9BED-D4E3A4DA84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