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63992"/>
        <c:axId val="45913682"/>
      </c:barChart>
      <c:catAx>
        <c:axId val="92463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13682"/>
        <c:crosses val="autoZero"/>
        <c:auto val="1"/>
        <c:lblAlgn val="ctr"/>
        <c:lblOffset val="100"/>
        <c:noMultiLvlLbl val="0"/>
      </c:catAx>
      <c:valAx>
        <c:axId val="45913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63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7DD-1243-40B8-8FB5-28892C5D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9AE-093C-43A2-92BB-4CBC6C73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497-D48C-4278-9ABE-148FCEC6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0D7-5CCE-4784-B56F-14E06C96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665-9596-4587-A4E0-FA0ED5FB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00D-F3DB-4FED-A3BC-E7841592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AF9-F01F-46C7-B898-1080F686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888-4B89-4B21-90FC-16752780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FEA-0F5F-4F1C-93F6-944B78BD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E79-F461-4DE6-B86C-F15B804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822-4602-4109-99F7-2EE097C4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F39-DB4D-43CF-95E4-0BE126A3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854EC-7DBB-4AE5-9667-659B0DA5CD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