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27078"/>
        <c:axId val="6506936"/>
      </c:barChart>
      <c:catAx>
        <c:axId val="94327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6936"/>
        <c:crosses val="autoZero"/>
        <c:auto val="1"/>
        <c:lblAlgn val="ctr"/>
        <c:lblOffset val="100"/>
        <c:noMultiLvlLbl val="0"/>
      </c:catAx>
      <c:valAx>
        <c:axId val="6506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7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6AD-1261-4C8D-98A0-B4C67253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04B-D54C-41E1-B34B-08C42E4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B96-D90E-4280-BAD3-1B98C5BA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AA6-8BC8-4417-933C-5E986B40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680-BE5A-4A09-940E-148501C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DCF-AEB8-4207-8E02-523853C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51A-13F4-441B-BDE3-6D145FE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3AB-DDF5-4607-840F-8227B453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8D5-1B0F-4EC8-ABBD-57E76069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AB8-F1DC-4FBF-8633-3034A8A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A4B-ACDE-414D-B7E4-C761A41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FF0-B4A1-4540-AAF5-B9CB50E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A442B-BDCA-4251-BCD8-30F4DE3B2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