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90424"/>
        <c:axId val="19559033"/>
      </c:barChart>
      <c:catAx>
        <c:axId val="28590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59033"/>
        <c:crosses val="autoZero"/>
        <c:auto val="1"/>
        <c:lblAlgn val="ctr"/>
        <c:lblOffset val="100"/>
        <c:noMultiLvlLbl val="0"/>
      </c:catAx>
      <c:valAx>
        <c:axId val="19559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90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A98-19A1-4143-B875-A7AC30A0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865-9713-4FAF-8FD5-2733AF4D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2B8-FE3D-4FF0-AAE8-89BD3BD4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083-6C59-49E7-9305-5BEFA83B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00B-34CE-412B-98FF-C7E89167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50A-E318-43C2-BB18-127983D1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959-E08E-4FF1-B98E-C2361F6C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59E-05CA-4D11-AC48-9580936B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2D5-7B63-4F5D-8C7C-AD1D38CD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212-3553-4336-8F26-4ED20692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DA9-3D50-4E59-9C21-E47DF92B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9AF-A560-4870-9CAE-7A005407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2E9C2-4E9D-4134-BBE5-6DCAA37A30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