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6116"/>
        <c:axId val="8627612"/>
      </c:barChart>
      <c:catAx>
        <c:axId val="7496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7612"/>
        <c:crosses val="autoZero"/>
        <c:auto val="1"/>
        <c:lblAlgn val="ctr"/>
        <c:lblOffset val="100"/>
        <c:noMultiLvlLbl val="0"/>
      </c:catAx>
      <c:valAx>
        <c:axId val="8627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6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939-ABD0-46DD-A454-D7D02E5D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77C-09E3-4254-A5CB-65B3E0DA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C89-E30D-45B7-83CD-AAED3992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646-6B60-4BCF-A93A-90E03811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8C2-2A7C-4924-88C9-0C716A3F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1E9-1D2E-4B82-AD53-699BBB7C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F76-4720-49E4-9004-F2616B22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361-4EFD-414A-9E89-B011E2D7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536-3819-4F1C-9E3E-9E939503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EB7-6FDE-4463-AB2E-64C5A88D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59D-8556-4119-B48B-E58B071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F51-7D78-4208-B2A4-7F2CD1CF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DE012-6DA5-46A7-B38E-F1D166BC75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