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0885"/>
        <c:axId val="37601904"/>
      </c:barChart>
      <c:catAx>
        <c:axId val="40310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01904"/>
        <c:crosses val="autoZero"/>
        <c:auto val="1"/>
        <c:lblAlgn val="ctr"/>
        <c:lblOffset val="100"/>
        <c:noMultiLvlLbl val="0"/>
      </c:catAx>
      <c:valAx>
        <c:axId val="37601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0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401-EC3E-4ED1-9DA3-08D5BED0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E55-538F-4528-AD71-7DE36509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F7E-592D-4295-8C07-2B37A463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66A-3FD1-4965-9412-DF7306FD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36D-A4D2-4973-8E79-54E634F2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886-9BE9-4386-B434-678350A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DAA-1C57-409B-8484-75CBC0D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0941-5DFC-4416-BEF2-F0B79F9B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9B9-2046-4BF5-9C6D-572701E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A8A-3E54-45C0-943C-8BB95911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C4B-4F50-4D29-8FB3-10769C7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8DD-C50B-47A1-9A49-9C61B94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21C4B-710E-4B47-BBE4-0E62F7F0D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