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198136"/>
        <c:axId val="21495562"/>
      </c:barChart>
      <c:catAx>
        <c:axId val="391981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495562"/>
        <c:crosses val="autoZero"/>
        <c:auto val="1"/>
        <c:lblAlgn val="ctr"/>
        <c:lblOffset val="100"/>
        <c:noMultiLvlLbl val="0"/>
      </c:catAx>
      <c:valAx>
        <c:axId val="214955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1981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A54A-3FD7-4862-BFE4-78F6DA824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A88C-642C-482A-8AB4-653F5E95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0940-1B60-444F-A95F-384ACAB35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1F1E-46E5-443B-8BDB-BF6969A4A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F092-E4A6-4AA7-9D90-089A8139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75BC-D64F-4DF5-A93E-0F2D32F1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DCBA-E241-4F48-AD4B-2090EAA0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ABCB-34E3-4AB9-B3C0-EE7A75D9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4694-8A95-4F83-BE80-2276497F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2C60-0704-4055-BDD7-9CC4727A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3FC1-BDC5-43FB-B6AC-02160C48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3CD5-93AB-4C72-AE07-E73A9E59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C511F-0342-4EAF-972A-9646BE6122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