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2375"/>
        <c:axId val="58553782"/>
      </c:barChart>
      <c:catAx>
        <c:axId val="9032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53782"/>
        <c:crosses val="autoZero"/>
        <c:auto val="1"/>
        <c:lblAlgn val="ctr"/>
        <c:lblOffset val="100"/>
        <c:noMultiLvlLbl val="0"/>
      </c:catAx>
      <c:valAx>
        <c:axId val="58553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2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608-8CE8-45E4-BB81-D9CD0094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67C-6CF9-4D37-B7EF-D7CA19D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FC7-5A0C-4068-A546-BE9D9824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8D6-5D6D-48A7-A729-95C5DFD1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3D6-CC4D-4CDF-85C0-78343809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C6E-C596-4A63-994B-9BDBF734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2C8-846B-4BB9-A5AE-3F9666C3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DB2-07C5-4852-B799-F0A70B6B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E3F-A9FE-48BC-B043-32781A9D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44D-90EA-4338-83F9-1C1DCB18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D6D-EE22-4ABD-A1E8-DD20BCF9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5BE-0714-47AF-930E-F7241C1A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C1C47-E25A-4678-8E22-14C824681E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